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087-E490-40C3-9489-2877D0E9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348F-C354-4469-ACEC-57DDE9EA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8EF-BF81-40A5-8673-86FADAAE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F6B-B1FC-4760-87A7-497521ED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0B2-CC2A-4F54-A4D2-69CC5A3B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BED-58D9-4371-B404-E7B2E3F5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811-0A1C-4C7D-B84C-B63A78C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9DB-9C81-4040-B846-8E534D86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285-902B-4C67-AAD4-050FD9F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6E7-E124-47E3-B730-8941BE22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04C-B17F-4718-861F-84F0BD5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ED8-56F0-411E-9CD4-CC4B04C1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B43-15BA-4B98-9203-B2E922B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1FB-C92B-479A-9349-B15C8F6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BC4F-E3EC-4E0F-93F4-B6A01882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Joselly.  Yo vivo en la ciudad Astoria.  Tengo catorse años.  Yo no tengo hermanos. Soy sí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0988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, quiero va al par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    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quieres hacer? Estoy aburrido.            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38080" y="60958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2Z</dcterms:modified>
  <cp:revision>107</cp:revision>
  <dc:subject/>
  <dc:title>Profile</dc:title>
</cp:coreProperties>
</file>